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2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move the slide</a:t>
            </a:r>
            <a:endParaRPr b="1" lang="en-US" sz="3600" spc="-1" strike="noStrike">
              <a:solidFill>
                <a:srgbClr val="6594da"/>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3165A-A15B-4467-80F4-3BB5D8F3F88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pening slide will have music, no narration. The final multimedia presentation will be in video format. </a:t>
            </a: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3A58B-7C7F-43D4-A3B1-4649086BCD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area of diffusion research demonstrates the s-curve of adoption. Plotting the cumulative number of adopters over time usually follows a s-curve. This graphic representation shows the speed of adoption which begins slowly as early adopters immediately accept the innovation . Then, it accelerates to maximum growth as the early majority interact with one another to gradually adopt innovations. Finally, the curve tapers off as late adopters make the decision to adopt after the innovation has achieved sustained recognition (Rogers, 2003). </a:t>
            </a: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53CF7-1646-49A9-AA1D-54B811D701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curve represents the rate of adoption for wikispaces, a free site on the internet for educators that provides a wiki service without ads specifically for educators. The rate of adoption for wikis is virtually impossible to assess due to the overwhelming response to Ward’s first wiki. According to WikiMatrix (2009), there are currently over 100 wiki engines on the internet with an immeasurable number of wiki pages and viewers. Therefore, I chose to study the site, Wikispaces, since this is the engine that I will use to diffuse classroom wikis into our elementary school. I chose Wikispaces because it is one of the only sites that supports the K-12 environment by providing  maximum privacy, no advertising, and upgraded features at no cost. Additionally, I am familiar with the tools as I have created several learning communities using Wikispaces software. The cumulative data  of the number of wiki pages represents the rate of adoption since the introduction of Wikispaces in 2005. The creators began with 5000 spaces in 2005 (“Wikispaces on CNET,” 2005). In 2006, no data exists to show an increase in wiki numbers. In 2007, the rate of wiki pages quickly accelerated to over 390,000 (Byers, 2008). The data for the year of 2008 showed exemplary approval with over 900,000 wikis, with 100,000 of these classified as K-12 classroom wikis (Byers, 2009). Currently, the data represents over 1,000,000 wiki pages. The official 2009 data will not be released until March 2010. The rate of adoption for wiki pages on Wikispaces follows the normal s-curve with a few early adopters in the beginnings of implementation, followed by a steady increase over a few years. Now, the curve shows the wikispaces tapering off, however, this is not an accurate representation of the rate of adoption since final data for 2009 will not be available for 8 months. However, the graph demonstrates how the early majority are bringing the curve to its maximum potential. This evidence shows that Wikispaces has matured as a successful innovation and can safely be diffused into our educational setting.  It is also demonstration to the possibility that a new development in wiki software is about to transpire as many innovations enter as older ones reach maturity (Thornburg, 2008).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ers, J. (2005, November 15). </a:t>
            </a:r>
            <a:r>
              <a:rPr b="0" i="1" lang="en-US" sz="1200" spc="-1" strike="noStrike">
                <a:solidFill>
                  <a:srgbClr val="000000"/>
                </a:solidFill>
                <a:latin typeface="Calibri"/>
              </a:rPr>
              <a:t>Wikispaces on CNET</a:t>
            </a:r>
            <a:r>
              <a:rPr b="0" lang="en-US" sz="1200" spc="-1" strike="noStrike">
                <a:solidFill>
                  <a:srgbClr val="000000"/>
                </a:solidFill>
                <a:latin typeface="Calibri"/>
              </a:rPr>
              <a:t>. Message posted to http://blog.wikispaces.com/2005/11</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ers, J. (2008, March 31). </a:t>
            </a:r>
            <a:r>
              <a:rPr b="0" i="1" lang="en-US" sz="1200" spc="-1" strike="noStrike">
                <a:solidFill>
                  <a:srgbClr val="000000"/>
                </a:solidFill>
                <a:latin typeface="Calibri"/>
              </a:rPr>
              <a:t>Wikispaces turns three</a:t>
            </a:r>
            <a:r>
              <a:rPr b="0" lang="en-US" sz="1200" spc="-1" strike="noStrike">
                <a:solidFill>
                  <a:srgbClr val="000000"/>
                </a:solidFill>
                <a:latin typeface="Calibri"/>
              </a:rPr>
              <a:t>. Message posted to http://blog.wikispaces.com/2008/03/wikispaces-turns-three.htm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ers, J. (2009, March 18). </a:t>
            </a:r>
            <a:r>
              <a:rPr b="0" i="1" lang="en-US" sz="1200" spc="-1" strike="noStrike">
                <a:solidFill>
                  <a:srgbClr val="000000"/>
                </a:solidFill>
                <a:latin typeface="Calibri"/>
              </a:rPr>
              <a:t>Wikispaces birthday week: Site statistics</a:t>
            </a:r>
            <a:r>
              <a:rPr b="0" lang="en-US" sz="1200" spc="-1" strike="noStrike">
                <a:solidFill>
                  <a:srgbClr val="000000"/>
                </a:solidFill>
                <a:latin typeface="Calibri"/>
              </a:rPr>
              <a:t>. Message posted to http://blog.wikispaces.com/2009/03/wikispaces-birthday-site-statistics.htm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y, A. (2006, September 7). </a:t>
            </a:r>
            <a:r>
              <a:rPr b="0" i="1" lang="en-US" sz="1200" spc="-1" strike="noStrike">
                <a:solidFill>
                  <a:srgbClr val="000000"/>
                </a:solidFill>
                <a:latin typeface="Calibri"/>
              </a:rPr>
              <a:t>100,000 wikis in the classroom.</a:t>
            </a:r>
            <a:r>
              <a:rPr b="0" lang="en-US" sz="1200" spc="-1" strike="noStrike">
                <a:solidFill>
                  <a:srgbClr val="000000"/>
                </a:solidFill>
                <a:latin typeface="Calibri"/>
              </a:rPr>
              <a:t> Message posted to http://blog.wikispaces.com/2006/09/100000-wikis-in-classroom.html</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rnburg, D. (2008). </a:t>
            </a:r>
            <a:r>
              <a:rPr b="0" i="1" lang="en-US" sz="1200" spc="-1" strike="noStrike">
                <a:solidFill>
                  <a:srgbClr val="000000"/>
                </a:solidFill>
                <a:latin typeface="Calibri"/>
              </a:rPr>
              <a:t>S-curve </a:t>
            </a:r>
            <a:r>
              <a:rPr b="0" lang="en-US" sz="1200" spc="-1" strike="noStrike">
                <a:solidFill>
                  <a:srgbClr val="000000"/>
                </a:solidFill>
                <a:latin typeface="Calibri"/>
              </a:rPr>
              <a:t>[DVD]. Laureate Education, In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Matrix. (2009). </a:t>
            </a:r>
            <a:r>
              <a:rPr b="0" i="1" lang="en-US" sz="1200" spc="-1" strike="noStrike">
                <a:solidFill>
                  <a:srgbClr val="000000"/>
                </a:solidFill>
                <a:latin typeface="Calibri"/>
              </a:rPr>
              <a:t>The wiki statistics</a:t>
            </a:r>
            <a:r>
              <a:rPr b="0" lang="en-US" sz="1200" spc="-1" strike="noStrike">
                <a:solidFill>
                  <a:srgbClr val="000000"/>
                </a:solidFill>
                <a:latin typeface="Calibri"/>
              </a:rPr>
              <a:t>. Retrieved July 8, 2009, from http://www.wikimatrix.org/statistics.php</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E5279-2DA0-4351-B1C1-2F6B955CC5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urve shows the relative position of adopters with innovators at the onset, followed by early adopters, then early majority finishing the peak of the curve. As the curve begins to decline, late majority adopt the new idea and finally laggards complete the adoption process. This chart shows the projected diffusion of wikis in the classroom. Using the percentages presented by Rogers (2003), this figure demonstrates a small number of innovators and adopters, 16%,  who are responsible for initiating the diffusion process. In a faculty of 40 participants, this number equals to about 6 individuals. The early and late majority make up 64%, or 27, teachers while the laggards include approximately 6 teachers or 16%. Please take into consideration that this is in an ideal situation and assumes that the diffusion process reaches complete adoption. However, discussion of this model provides graphic representation of the importance and role of each adopter type. Obviously, the key innovators and early adopters play a critical role in adoption of classroom wikis. Let’s take a deeper look at these categories.</a:t>
            </a:r>
            <a:endParaRPr b="0" lang="en-US"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08F87-FE04-4A22-B066-23404B9CF5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y innovators include myself and a fellow colleague. She is selected as an innovator because she is an opinion leader in the area of educational technology, respected by her peers as a expert in the field, and possesses an innate ability to apply technological innovations within the classroom. Her main role will is to help launch the idea of classroom wikis using her extensive knowledge and technical exper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ly adopters in the diffusion process include the principal, assistant principal, computer lab teacher, and media specialist. The principal and assistant principal are highly respected for their ultimate role in decision making. The computer lab teacher hold high leadership in the area of educational technologies including hardware and software issues. Many faculty members go to her with questions regarding the latest technological innovations. Finally, the media specialist is involved in the evaluation and adoption of educational programs and technologies. Her reputable evaluations trigger new teaching and learning practices. These integral members hold high degrees of opinion leadership and will speed the diffusion process by acting as change agents for the innovation. By communicating with other faculty members, these early adopters will decrease uncertainty and initiate critical mass. </a:t>
            </a:r>
            <a:endParaRPr b="0" lang="en-US"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2D339-62DD-455B-A555-866A45E307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innovators and early adopters are known for taking risks and quickly accepting new innovations, the main strategy for persuasion involves sharing the relevance and compatibility of classroom wikis. Both groups will experience training in wiki basics, observe working classroom wikis, and create a personal wiki to authentic practical experience. Within this training, the groups will realize the relative advantage of this cost-effective innovation as an efficient method of teaching and learning. </a:t>
            </a:r>
            <a:endParaRPr b="0" lang="en-US"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EB8F3-9545-4C88-839A-CF34F67630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ggards in the workplace are resistant to innovations, but they authenticate complete adoption. Using the previous figure, a small majority of faculty members comprise the laggard category. The probability of their adoption depends on their perceptions of the relevancy and compatibility of classroom wikis. Familiarity with traditional writing practices hinders the adoption process for the laggards because they fail to see the relevancy in an innovation that is comparable to existing methods. In order to persuade them to adopt the innovation, I must prove that this method increases collaboration and provides authentic writing experiences. Additionally, incentives for staff development and trialability will motivate them to gather information to begin the decision-making process. </a:t>
            </a:r>
            <a:endParaRPr b="0" lang="en-US"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57B81-D02C-4893-B37B-AAD5A5364B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lative advantage in this scenario affects the rate of adoption to a great extent because of uncertainty regarding computer-mediated instruction. Dede (2008) argues a critical element in the adoption of online learning for educators due to traditional pedagogy that places face-to-face interaction at the heart of exceptional teaching and learning. The relative advantage expresses assurance that the innovation supersedes existing methods (Rogers, 2003). Therefore, promoting wikis requires creating doubt in existing practices to increase acceptance that the new idea will provide improved benefits and superior outcomes. This idea overlaps with the compatibility attribute arguing that an idea congruent with current practices may not diffuse due to perceptions involving appreciation of familiar understanding (Rogers, 2003). Diffusing wikis will depend on whether change agents successfully convey that online delivery of writing instruction offers higher-quality outcomes, produces enhanced teaching practices, and increases motivation. Providing incentives to try classroom wikis will decrease uncertainty regarding complexity and result in a higher rate of adop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de, C. (2008). </a:t>
            </a:r>
            <a:r>
              <a:rPr b="0" i="1" lang="en-US" sz="1200" spc="-1" strike="noStrike">
                <a:solidFill>
                  <a:srgbClr val="000000"/>
                </a:solidFill>
                <a:latin typeface="Calibri"/>
              </a:rPr>
              <a:t>Online professional development </a:t>
            </a:r>
            <a:r>
              <a:rPr b="0" lang="en-US" sz="1200" spc="-1" strike="noStrike">
                <a:solidFill>
                  <a:srgbClr val="000000"/>
                </a:solidFill>
                <a:latin typeface="Calibri"/>
              </a:rPr>
              <a:t>[DVD]. Laureate Education, Inc.</a:t>
            </a:r>
            <a:br>
              <a:rPr sz="1200"/>
            </a:br>
            <a:r>
              <a:rPr b="0" lang="en-US" sz="1200" spc="-1" strike="noStrike">
                <a:solidFill>
                  <a:srgbClr val="000000"/>
                </a:solidFill>
                <a:latin typeface="Calibri"/>
              </a:rPr>
              <a:t>Rogers, E. (2003). </a:t>
            </a:r>
            <a:r>
              <a:rPr b="0" i="1" lang="en-US" sz="1200" spc="-1" strike="noStrike">
                <a:solidFill>
                  <a:srgbClr val="000000"/>
                </a:solidFill>
                <a:latin typeface="Calibri"/>
              </a:rPr>
              <a:t>Diffusion of Innovations</a:t>
            </a:r>
            <a:r>
              <a:rPr b="0" lang="en-US" sz="1200" spc="-1" strike="noStrike">
                <a:solidFill>
                  <a:srgbClr val="000000"/>
                </a:solidFill>
                <a:latin typeface="Calibri"/>
              </a:rPr>
              <a:t>. (5</a:t>
            </a:r>
            <a:r>
              <a:rPr b="0" lang="en-US" sz="1200" spc="-1" strike="noStrike" baseline="30000">
                <a:solidFill>
                  <a:srgbClr val="000000"/>
                </a:solidFill>
                <a:latin typeface="Calibri"/>
              </a:rPr>
              <a:t>th</a:t>
            </a:r>
            <a:r>
              <a:rPr b="0" lang="en-US" sz="1200" spc="-1" strike="noStrike">
                <a:solidFill>
                  <a:srgbClr val="000000"/>
                </a:solidFill>
                <a:latin typeface="Calibri"/>
              </a:rPr>
              <a:t> ed.). New York: NY: Free P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1FD11-90D9-4A66-9640-7B8C92F43B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 I’m Marci Vining, a graduate student at Walden University. Thank you for taking the time to review this presentation on designing and implementing wiki technology in early elementary classrooms. This video will captivate your interest providing relevant information in the process of diffusion and integration of wiki technology in education. You will learn the value of this innovation in making a positive difference in education as well as how easy this technology can diffuse into Lamar County Elementary School. Now, enjoy the presentation and get caught in the Wiki Web.</a:t>
            </a: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03220-EAE3-46FB-94B5-4FE6F2F6D1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gin, let’s explore the stages of wiki development. The four stages include need, research, development, and commercialization. </a:t>
            </a: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AE3C1-7626-439B-BC9B-DF8DA4DED9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ed for wiki technology originates from research suggesting that learning activities involving student participation and collaboration significantly influence academic achievement and social development (Webb, Franke, Ing, Chan, De, Freund, &amp; Battey, 2008). Wiki technology facilitates a collaborative community for students to share personal experiences, receive continual feedback, and acquire knowledge. </a:t>
            </a: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E03D2-93DD-4757-A48B-2E736A473D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d Cunningham, a Portland, Oregon programmer, invented and distributed the wiki in 1995. He created the wiki as a collaborative community for computer programmers to communicate personal experience and expertise (Scoble, 2005). Cunningham hoped to increase productivity by building a computer programming community where members contributed knowledge to resolve challenging problems. The ability to freely create and authorize information on the web provided the opportunity for his idea to gain momentum. He later wrote a book to further disseminate information on the collaborative nature of wik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oble, R. (Producer). (2005, October 14). Sam Gentile and Ward Cunningham: Recounting early days of wiki. Podcast retrieved from, http://channel9.msdn.com/posts/scobleizer/Sam-Gentile-and-Ward-Cunningham-Recounting-early-days-of-Wiki</a:t>
            </a: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41A7B-F111-485F-9B5C-2ABF879339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velopment process encountered one major challenge, deviant behavior. Occasionally, Cunningham’s initial wiki, WikiWikiWeb, experienced malicious deeds where users would delete content or post “off topic” content (“Why Wiki Works Not,” 2008). However, these issues are easily managed by using tracking applications to restore or edit cont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initially created for computer programmers, Cunningham’s idea continued to develop, and soon, users from all over the web created wiki pages including corporate, education, and entertainment institutions (Atelier, 200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elier (2008, July 23). How Ward Cunningham invented wikis. Message posted to http://www.atelier-us.com/internet-usage/article/how-ward-cunningham-invented-wik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wiki works not. (2008, August 8). Message posted to http://c2.com/cgi/wiki?WhyWikiWorksNot</a:t>
            </a:r>
            <a:endParaRPr b="0" lang="en-US"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8AB2C-91A5-4285-AA66-54EAACC848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web grew, the collaborative software gradually diffused into all facets of work and play (Scoble, 2005). Commercialization of this product required little effort on the part of Cunningham as web users discovered and reinvented the product to meet professional and personal needs. For the purpose of this presentation, we will now focus on the diffusion of this product in an educational setting. Educators seeking innovative instructional activities adopted this tool to engage students in academic skills and build social skills (Oatman, 2005). Active innovators are responsible for the acceptance of wikis in the classroom. As they create classroom wikis and disseminate information on the value of educational wikis, more educators are exploring the role of wikis in the classro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18812-D6A0-4030-93BC-E9696FE2B0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far, you have learned the beginnings of wiki technology. The next part of the presentation will explain how wiki technology has become widespread in education. A timeline will present the five stages of the innovation-decision process and summarize evidence of particular actions responsible for decision making. After reviewing the stages, you will have an understanding of the behaviors causing wikis to become valuable choices for educational learning. </a:t>
            </a:r>
            <a:endParaRPr b="0" lang="en-US"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364BD-6AF3-4599-B37A-2F23DF7E76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imeline demonstrates the re-invention of the initial wiki into the concept of a classroom wiki. After knowledge of wiki technology disseminated on the web, users adopted and modified the idea to meet individual needs. The wiki became popular along with several other innovative technologies coined “web 2.0.” The success of these technologies on the web soon captured the interest of educational innovators who began using these tools in the classroom for active learning. It wasn’t until 2006 that published research advocated integrating classroom wikis as educational opportunities. Now, wikis are easily diffused in many classroom settings and included in topics of discussion at technology conferences, online forums, and staff developmen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individuals receive messages associated with adoption of wikis? Social networking sites, including wikis, and innovator experience with online software affected both the decision and implementation of wikis. Rogers (2003) suggests a separation between mass media and interpersonal communication channels. However, the growth of the internet and subsequent communication tools facilitate knowledge throughout development of the innovation-decision process.  In this case, the innovation is a web-based application and requires the internet for knowledge, consideration, trial, and implementation.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hringer, E.F., Cassel, L. Deibel, K., &amp; Joel, W. (2008, March). Wikis: Collaborative learning for cs education. </a:t>
            </a:r>
            <a:r>
              <a:rPr b="0" i="1" lang="en-US" sz="1200" spc="-1" strike="noStrike">
                <a:solidFill>
                  <a:srgbClr val="000000"/>
                </a:solidFill>
                <a:latin typeface="Calibri"/>
              </a:rPr>
              <a:t>SIGCSE Bulletin, 40</a:t>
            </a:r>
            <a:r>
              <a:rPr b="0" lang="en-US" sz="1200" spc="-1" strike="noStrike">
                <a:solidFill>
                  <a:srgbClr val="000000"/>
                </a:solidFill>
                <a:latin typeface="Calibri"/>
              </a:rPr>
              <a:t>(1), 379-380. Retrieved July 2, 2009, from Inspec database.</a:t>
            </a: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30D19-B185-45BD-807B-E6A1875365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CE0138-55AB-4DFF-B368-3513930918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66317-7722-4471-84B0-9ECD1268F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46A2E4-0C37-455E-A205-6C7A3DD919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3366B8-355E-4603-A471-42B409266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6667ED-1CA3-45A1-81AD-64FFA3C1E4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185CC4-AF32-4B16-B067-CB140F0F61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34AB19-F472-49D5-9687-87ADDCB8C1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A03D86-DF10-47BD-BF1C-77C392F46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FD93AE-7D17-420A-A2C0-8C29FFAE63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20A8E3-9E69-439A-9790-090F521C9A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7760C-CAD4-4B46-A119-13EEAD6AA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C3061-BBE6-408E-BAE9-DACF26C26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8E6F40-51CD-4BC3-885D-03871FABC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38AEA4-D07B-4801-A9C8-A1890696C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B47DE3-0FBE-41E2-865A-C1B0A54282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715D6C-9B2C-4B5B-9011-26C05CEB87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FA8650-509A-4CEA-A2C1-496CF4CE9A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E2BA98-E501-4C5A-AA6C-70397E6348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497458-1EEB-4734-9495-9A204693B9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1E061E-9107-486E-B977-4B5BC81ABD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16DCE1-DDCC-4E8C-B367-429EDE1E17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A5A25C-6DEE-46D4-B3B2-38FA831D13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D75AD-EE76-4A8F-9E55-2E94EB647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9644CF-4549-44DA-9C19-55EB8850E5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DC4D5C-93AC-4206-A622-FBFA143EDC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D4B047-A4FE-47D5-ABA4-4B4BA55BDC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94D67C-B15A-4117-8BF0-821284DEC0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634803-DC12-48AB-B3EE-531F2ACAE8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9E4798-17AB-4AE6-AD7A-855F904D6F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951433-0F92-4F9B-B5B3-113724D219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2EBB75-6693-4F35-AD5B-C4A709B2BB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C3CB2B-6884-40AF-8F29-5D9296EE4D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23DC91-C86A-43E3-B13B-0DCC6552B8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32E6A-0806-450E-9D54-D14AF6A8A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E741E3-FFCC-449F-B38C-AC437CD5F9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3540E3-911E-4165-B62D-39BEC9EF44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2CB037-2535-4F06-A63E-23A46F4A22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1CE66D-383B-4464-B11C-0B0B621867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7E6F02-6DF5-47E9-8E0B-117D47DE28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EF9B73-C041-426F-9916-9CF70D43CE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FA8115-A35C-4B63-B069-B196CF9FFF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80C69E-FE13-45A1-9AD1-49D646E171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BE4C58-CC91-44D0-9E0E-E64740884F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3CF95C-F156-45E5-B80C-461D932412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CCF9A-D250-48D8-99C5-8D165B219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E2A7EF-574E-4EF5-8ED6-8A2C74779F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74F5C9-2E4C-43F5-9BF5-C020C002FC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FB588F-99BE-4795-9C07-EABF4BEE85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C03DE0-A5CF-403A-AD92-12416AFE42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71083C-E4C5-44FE-8257-8AE735C8EE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1F3125-D6D0-4AB3-9D22-35B9403B30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A8E19D-C99B-47D0-9390-15A75D7657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D4EE2A-5A6F-460F-9DEF-B8B9D67057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1D4619-D3FE-42FD-9F04-13D7F5C12C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B8DCDA-3E7B-45FB-BE8C-EDCC3B75CF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4AC1A-BFB6-4086-8DAB-A107798F8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9638B6-A53C-4B86-BB83-3DA6020850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C736B-D7B9-4746-9317-0E7ECCC65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8275C-D808-48E2-A512-CF709CD87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94da"/>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6A38B-9E13-4218-8798-F3462A842C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77578-172F-4890-8CD8-92DE9A772CAF}" type="slidenum">
              <a:rPr b="0" lang="en-US"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ounded Rectangle 10"/>
          <p:cNvGrpSpPr/>
          <p:nvPr/>
        </p:nvGrpSpPr>
        <p:grpSpPr>
          <a:xfrm>
            <a:off x="414360" y="426960"/>
            <a:ext cx="8315280" cy="3121200"/>
            <a:chOff x="414360" y="426960"/>
            <a:chExt cx="8315280" cy="3121200"/>
          </a:xfrm>
        </p:grpSpPr>
        <p:pic>
          <p:nvPicPr>
            <p:cNvPr id="47" name="Rounded Rectangle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C3404-F49D-417B-B9E4-6282107A4B7A}" type="slidenum">
              <a:rPr b="0" lang="en-US"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ounded Rectangle 10"/>
          <p:cNvGrpSpPr/>
          <p:nvPr/>
        </p:nvGrpSpPr>
        <p:grpSpPr>
          <a:xfrm>
            <a:off x="414360" y="426960"/>
            <a:ext cx="8315280" cy="4353120"/>
            <a:chOff x="414360" y="426960"/>
            <a:chExt cx="8315280" cy="4353120"/>
          </a:xfrm>
        </p:grpSpPr>
        <p:pic>
          <p:nvPicPr>
            <p:cNvPr id="92" name="Rounded Rectangle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BDE73-8968-4CAF-AD3A-E887607D8F68}" type="slidenum">
              <a:rPr b="0" lang="en-US"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A37E3-C890-4974-862F-127889A07D4E}" type="slidenum">
              <a:rPr b="0" lang="en-US"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ound Single Corner Rectangle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lick to edit the title text format</a:t>
            </a:r>
            <a:endParaRPr b="1" lang="en-US" sz="3600" spc="-1" strike="noStrike">
              <a:solidFill>
                <a:srgbClr val="6594da"/>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3d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3d3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beff4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fada5"/>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fada5"/>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AFE0A-4A70-48AA-81E5-2F2E346BEB05}" type="slidenum">
              <a:rPr b="0" lang="en-US" sz="1000" spc="-1" strike="noStrike">
                <a:solidFill>
                  <a:srgbClr val="afada5"/>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www.c2.com/cgi/wiki" TargetMode="External"/><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22160" y="1820880"/>
            <a:ext cx="7772400" cy="18288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594da"/>
                </a:solidFill>
                <a:latin typeface="Verdana"/>
              </a:rPr>
              <a:t>The Wiki Web</a:t>
            </a:r>
            <a:br>
              <a:rPr sz="4100"/>
            </a:br>
            <a:r>
              <a:rPr b="1" lang="en-US" sz="3200" spc="-1" strike="noStrike">
                <a:solidFill>
                  <a:srgbClr val="6594da"/>
                </a:solidFill>
                <a:latin typeface="Verdana"/>
              </a:rPr>
              <a:t>Making Classroom Connections</a:t>
            </a:r>
            <a:endParaRPr b="1" lang="en-US" sz="3200" spc="-1" strike="noStrike">
              <a:solidFill>
                <a:srgbClr val="6594da"/>
              </a:solidFill>
              <a:latin typeface="Verdana"/>
            </a:endParaRPr>
          </a:p>
        </p:txBody>
      </p:sp>
      <p:sp>
        <p:nvSpPr>
          <p:cNvPr id="228" name="PlaceHolder 2"/>
          <p:cNvSpPr>
            <a:spLocks noGrp="1"/>
          </p:cNvSpPr>
          <p:nvPr>
            <p:ph type="subTitle"/>
          </p:nvPr>
        </p:nvSpPr>
        <p:spPr>
          <a:xfrm>
            <a:off x="722160" y="3684600"/>
            <a:ext cx="7772400" cy="914400"/>
          </a:xfrm>
          <a:prstGeom prst="rect">
            <a:avLst/>
          </a:prstGeom>
          <a:noFill/>
          <a:ln w="0">
            <a:noFill/>
          </a:ln>
        </p:spPr>
        <p:txBody>
          <a:bodyPr lIns="182880" tIns="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e78"/>
                </a:solidFill>
                <a:latin typeface="Verdana"/>
              </a:rPr>
              <a:t>Storyboard by: Marci Vining</a:t>
            </a:r>
            <a:endParaRPr b="0" lang="en-US" sz="20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e78"/>
                </a:solidFill>
                <a:latin typeface="Verdana"/>
              </a:rPr>
              <a:t>EDUC 8841</a:t>
            </a:r>
            <a:endParaRPr b="0" lang="en-US" sz="2000" spc="-1" strike="noStrike">
              <a:solidFill>
                <a:srgbClr val="000000"/>
              </a:solidFill>
              <a:latin typeface="Verdana"/>
            </a:endParaRPr>
          </a:p>
        </p:txBody>
      </p:sp>
      <p:pic>
        <p:nvPicPr>
          <p:cNvPr id="229" name="Diagram 3" descr=""/>
          <p:cNvPicPr/>
          <p:nvPr/>
        </p:nvPicPr>
        <p:blipFill>
          <a:blip r:embed="rId1"/>
          <a:stretch/>
        </p:blipFill>
        <p:spPr>
          <a:xfrm>
            <a:off x="298440" y="3700440"/>
            <a:ext cx="4359240" cy="288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594da"/>
                </a:solidFill>
                <a:latin typeface="Verdana"/>
              </a:rPr>
              <a:t>Intro to Timeline Slide: Video Slide</a:t>
            </a:r>
            <a:endParaRPr b="1" lang="en-US" sz="3200" spc="-1" strike="noStrike">
              <a:solidFill>
                <a:srgbClr val="6594da"/>
              </a:solidFill>
              <a:latin typeface="Verdana"/>
            </a:endParaRPr>
          </a:p>
        </p:txBody>
      </p:sp>
      <p:pic>
        <p:nvPicPr>
          <p:cNvPr id="263" name="Picture 6" descr="C:\Users\MVining\AppData\Local\Microsoft\Windows\Temporary Internet Files\Content.IE5\PX3EPJO7\MCj04348600000[1].png"/>
          <p:cNvPicPr/>
          <p:nvPr/>
        </p:nvPicPr>
        <p:blipFill>
          <a:blip r:embed="rId1"/>
          <a:stretch/>
        </p:blipFill>
        <p:spPr>
          <a:xfrm>
            <a:off x="6629400" y="3581280"/>
            <a:ext cx="2228760" cy="2229120"/>
          </a:xfrm>
          <a:prstGeom prst="rect">
            <a:avLst/>
          </a:prstGeom>
          <a:ln w="0">
            <a:noFill/>
          </a:ln>
        </p:spPr>
      </p:pic>
      <p:pic>
        <p:nvPicPr>
          <p:cNvPr id="264" name="Picture 2" descr="S-curve of Innovation Adoption by Mr. Sheehy."/>
          <p:cNvPicPr/>
          <p:nvPr/>
        </p:nvPicPr>
        <p:blipFill>
          <a:blip r:embed="rId2"/>
          <a:stretch/>
        </p:blipFill>
        <p:spPr>
          <a:xfrm>
            <a:off x="762120" y="914400"/>
            <a:ext cx="4543200" cy="299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S-Curve of Wikispaces</a:t>
            </a:r>
            <a:endParaRPr b="1" lang="en-US" sz="3600" spc="-1" strike="noStrike">
              <a:solidFill>
                <a:srgbClr val="6594da"/>
              </a:solidFill>
              <a:latin typeface="Verdana"/>
            </a:endParaRPr>
          </a:p>
        </p:txBody>
      </p:sp>
      <p:pic>
        <p:nvPicPr>
          <p:cNvPr id="266" name="Content Placeholder 3" descr=""/>
          <p:cNvPicPr/>
          <p:nvPr/>
        </p:nvPicPr>
        <p:blipFill>
          <a:blip r:embed="rId1"/>
          <a:stretch/>
        </p:blipFill>
        <p:spPr>
          <a:xfrm>
            <a:off x="457200" y="530280"/>
            <a:ext cx="8229600" cy="4346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Adopter Classification</a:t>
            </a:r>
            <a:endParaRPr b="1" lang="en-US" sz="3600" spc="-1" strike="noStrike">
              <a:solidFill>
                <a:srgbClr val="6594da"/>
              </a:solidFill>
              <a:latin typeface="Verdana"/>
            </a:endParaRPr>
          </a:p>
        </p:txBody>
      </p:sp>
      <p:pic>
        <p:nvPicPr>
          <p:cNvPr id="268" name="Content Placeholder 3" descr=""/>
          <p:cNvPicPr/>
          <p:nvPr/>
        </p:nvPicPr>
        <p:blipFill>
          <a:blip r:embed="rId1"/>
          <a:stretch/>
        </p:blipFill>
        <p:spPr>
          <a:xfrm>
            <a:off x="457200" y="530280"/>
            <a:ext cx="8229600" cy="434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594da"/>
                </a:solidFill>
                <a:latin typeface="Verdana"/>
              </a:rPr>
              <a:t>Key Innovators and Early Adopters</a:t>
            </a:r>
            <a:endParaRPr b="1" lang="en-US" sz="3200" spc="-1" strike="noStrike">
              <a:solidFill>
                <a:srgbClr val="6594da"/>
              </a:solidFill>
              <a:latin typeface="Verdana"/>
            </a:endParaRPr>
          </a:p>
        </p:txBody>
      </p:sp>
      <p:sp>
        <p:nvSpPr>
          <p:cNvPr id="270" name=""/>
          <p:cNvSpPr txBox="1"/>
          <p:nvPr/>
        </p:nvSpPr>
        <p:spPr>
          <a:xfrm>
            <a:off x="514080" y="529920"/>
            <a:ext cx="3932280" cy="4389480"/>
          </a:xfrm>
          <a:prstGeom prst="rect">
            <a:avLst/>
          </a:prstGeom>
          <a:noFill/>
          <a:ln w="0">
            <a:noFill/>
          </a:ln>
        </p:spPr>
        <p:txBody>
          <a:bodyPr lIns="182880" tIns="9144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novators</a:t>
            </a:r>
            <a:endParaRPr b="0" lang="en-US" sz="26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eam member currently who perceives wikis as an effective educational tool and uses wikispaces for class work</a:t>
            </a:r>
            <a:r>
              <a:rPr b="0" lang="en-US" sz="2200" spc="-1" strike="noStrike">
                <a:solidFill>
                  <a:srgbClr val="000000"/>
                </a:solidFill>
                <a:latin typeface="Verdana"/>
              </a:rPr>
              <a:t>	</a:t>
            </a:r>
            <a:endParaRPr b="0" lang="en-US" sz="2200" spc="-1" strike="noStrike">
              <a:solidFill>
                <a:srgbClr val="000000"/>
              </a:solidFill>
              <a:latin typeface="Verdana"/>
            </a:endParaRPr>
          </a:p>
        </p:txBody>
      </p:sp>
      <p:sp>
        <p:nvSpPr>
          <p:cNvPr id="271" name=""/>
          <p:cNvSpPr txBox="1"/>
          <p:nvPr/>
        </p:nvSpPr>
        <p:spPr>
          <a:xfrm>
            <a:off x="4756320" y="529920"/>
            <a:ext cx="3930480" cy="4389480"/>
          </a:xfrm>
          <a:prstGeom prst="rect">
            <a:avLst/>
          </a:prstGeom>
          <a:noFill/>
          <a:ln w="0">
            <a:noFill/>
          </a:ln>
        </p:spPr>
        <p:txBody>
          <a:bodyPr lIns="182880" tIns="9144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arly Adopters</a:t>
            </a:r>
            <a:endParaRPr b="0" lang="en-US" sz="26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cipal</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ssistant Principal</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uter Lab Teacher</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a Specialist</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272" name="Picture 6" descr="teachers_4.jpg"/>
          <p:cNvPicPr/>
          <p:nvPr/>
        </p:nvPicPr>
        <p:blipFill>
          <a:blip r:embed="rId1"/>
          <a:stretch/>
        </p:blipFill>
        <p:spPr>
          <a:xfrm>
            <a:off x="2219400" y="3133800"/>
            <a:ext cx="1535040" cy="1633320"/>
          </a:xfrm>
          <a:prstGeom prst="rect">
            <a:avLst/>
          </a:prstGeom>
          <a:ln w="0">
            <a:noFill/>
          </a:ln>
        </p:spPr>
      </p:pic>
      <p:pic>
        <p:nvPicPr>
          <p:cNvPr id="273" name="Picture 7" descr="scan_knight_sm.jpg"/>
          <p:cNvPicPr/>
          <p:nvPr/>
        </p:nvPicPr>
        <p:blipFill>
          <a:blip r:embed="rId2"/>
          <a:stretch/>
        </p:blipFill>
        <p:spPr>
          <a:xfrm>
            <a:off x="4529160" y="2700360"/>
            <a:ext cx="2152800" cy="1859040"/>
          </a:xfrm>
          <a:prstGeom prst="rect">
            <a:avLst/>
          </a:prstGeom>
          <a:ln w="0">
            <a:noFill/>
          </a:ln>
        </p:spPr>
      </p:pic>
      <p:pic>
        <p:nvPicPr>
          <p:cNvPr id="274" name="Picture 8" descr="teachers_activity.jpg"/>
          <p:cNvPicPr/>
          <p:nvPr/>
        </p:nvPicPr>
        <p:blipFill>
          <a:blip r:embed="rId3"/>
          <a:stretch/>
        </p:blipFill>
        <p:spPr>
          <a:xfrm>
            <a:off x="6638760" y="3054240"/>
            <a:ext cx="1584360" cy="1627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594da"/>
                </a:solidFill>
                <a:latin typeface="Verdana"/>
              </a:rPr>
              <a:t>Persuasive Strategies – Disseminating Information</a:t>
            </a:r>
            <a:endParaRPr b="1" lang="en-US" sz="3200" spc="-1" strike="noStrike">
              <a:solidFill>
                <a:srgbClr val="6594da"/>
              </a:solidFill>
              <a:latin typeface="Verdana"/>
            </a:endParaRPr>
          </a:p>
        </p:txBody>
      </p:sp>
      <p:pic>
        <p:nvPicPr>
          <p:cNvPr id="276" name="Content Placeholder 6" descr=""/>
          <p:cNvPicPr/>
          <p:nvPr/>
        </p:nvPicPr>
        <p:blipFill>
          <a:blip r:embed="rId1"/>
          <a:stretch/>
        </p:blipFill>
        <p:spPr>
          <a:xfrm>
            <a:off x="480960" y="506520"/>
            <a:ext cx="8236080" cy="4241520"/>
          </a:xfrm>
          <a:prstGeom prst="rect">
            <a:avLst/>
          </a:prstGeom>
          <a:ln w="0">
            <a:noFill/>
          </a:ln>
        </p:spPr>
      </p:pic>
      <p:sp>
        <p:nvSpPr>
          <p:cNvPr id="277" name="TextBox 7"/>
          <p:cNvSpPr/>
          <p:nvPr/>
        </p:nvSpPr>
        <p:spPr>
          <a:xfrm>
            <a:off x="4267080" y="5943600"/>
            <a:ext cx="44960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ture Changes. (2008). Image posted at http://www.ikiw.org/category/wiki-use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awachi, P. (2007). Image published to http://paulkawachi.blogspot.com/</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rain County Gifted Consortium. (2007). Image posted at https://lcdlc.wikispaces.com/file/lis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Key Laggards</a:t>
            </a:r>
            <a:endParaRPr b="1" lang="en-US" sz="3600" spc="-1" strike="noStrike">
              <a:solidFill>
                <a:srgbClr val="6594da"/>
              </a:solidFill>
              <a:latin typeface="Verdana"/>
            </a:endParaRPr>
          </a:p>
        </p:txBody>
      </p:sp>
      <p:pic>
        <p:nvPicPr>
          <p:cNvPr id="279" name="Content Placeholder 3" descr=""/>
          <p:cNvPicPr/>
          <p:nvPr/>
        </p:nvPicPr>
        <p:blipFill>
          <a:blip r:embed="rId1"/>
          <a:stretch/>
        </p:blipFill>
        <p:spPr>
          <a:xfrm>
            <a:off x="506520" y="523800"/>
            <a:ext cx="3943080" cy="4402080"/>
          </a:xfrm>
          <a:prstGeom prst="rect">
            <a:avLst/>
          </a:prstGeom>
          <a:ln w="0">
            <a:noFill/>
          </a:ln>
        </p:spPr>
      </p:pic>
      <p:sp>
        <p:nvSpPr>
          <p:cNvPr id="280" name=""/>
          <p:cNvSpPr txBox="1"/>
          <p:nvPr/>
        </p:nvSpPr>
        <p:spPr>
          <a:xfrm>
            <a:off x="4756320" y="530280"/>
            <a:ext cx="3930480" cy="5184720"/>
          </a:xfrm>
          <a:prstGeom prst="rect">
            <a:avLst/>
          </a:prstGeom>
          <a:noFill/>
          <a:ln w="0">
            <a:noFill/>
          </a:ln>
        </p:spPr>
        <p:txBody>
          <a:bodyPr lIns="182880" tIns="91440" anchor="t">
            <a:normAutofit/>
          </a:bodyPr>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ff development</a:t>
            </a:r>
            <a:endParaRPr b="0" lang="en-US" sz="26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kispaces</a:t>
            </a:r>
            <a:endParaRPr b="0" lang="en-US" sz="2200" spc="-1" strike="noStrike">
              <a:solidFill>
                <a:srgbClr val="000000"/>
              </a:solidFill>
              <a:latin typeface="Verdana"/>
            </a:endParaRPr>
          </a:p>
          <a:p>
            <a:pPr lvl="1" marL="547560" indent="-199800">
              <a:spcBef>
                <a:spcPts val="249"/>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ki Walk-Through</a:t>
            </a:r>
            <a:endParaRPr b="0" lang="en-US" sz="2200" spc="-1" strike="noStrike">
              <a:solidFill>
                <a:srgbClr val="000000"/>
              </a:solidFill>
              <a:latin typeface="Verdana"/>
            </a:endParaRPr>
          </a:p>
          <a:p>
            <a:pPr lvl="1" marL="547560" indent="-1998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ropriate time for observation, trial, and discussion</a:t>
            </a:r>
            <a:endParaRPr b="0" lang="en-US" sz="2600" spc="-1" strike="noStrike">
              <a:solidFill>
                <a:srgbClr val="000000"/>
              </a:solidFill>
              <a:latin typeface="Verdana"/>
            </a:endParaRPr>
          </a:p>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centives: Paid work day, PLU’s</a:t>
            </a:r>
            <a:endParaRPr b="0" lang="en-US" sz="26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spcBef>
                <a:spcPts val="249"/>
              </a:spcBef>
              <a:buClr>
                <a:srgbClr val="4f81b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inuous suppo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Perceived Attributes</a:t>
            </a:r>
            <a:endParaRPr b="1" lang="en-US" sz="3600" spc="-1" strike="noStrike">
              <a:solidFill>
                <a:srgbClr val="6594da"/>
              </a:solidFill>
              <a:latin typeface="Verdana"/>
            </a:endParaRPr>
          </a:p>
        </p:txBody>
      </p:sp>
      <p:pic>
        <p:nvPicPr>
          <p:cNvPr id="282" name="Content Placeholder 4" descr=""/>
          <p:cNvPicPr/>
          <p:nvPr/>
        </p:nvPicPr>
        <p:blipFill>
          <a:blip r:embed="rId1"/>
          <a:stretch/>
        </p:blipFill>
        <p:spPr>
          <a:xfrm>
            <a:off x="506520" y="506520"/>
            <a:ext cx="8186760" cy="4578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Intro Slide: Video File</a:t>
            </a:r>
            <a:endParaRPr b="1" lang="en-US" sz="3600" spc="-1" strike="noStrike">
              <a:solidFill>
                <a:srgbClr val="6594da"/>
              </a:solidFill>
              <a:latin typeface="Verdana"/>
            </a:endParaRPr>
          </a:p>
        </p:txBody>
      </p:sp>
      <p:pic>
        <p:nvPicPr>
          <p:cNvPr id="231" name="Picture 4" descr="C:\Users\MVining\AppData\Local\Microsoft\Windows\Temporary Internet Files\Content.IE5\8IFYC2IK\MPj03847350000[1].jpg"/>
          <p:cNvPicPr/>
          <p:nvPr/>
        </p:nvPicPr>
        <p:blipFill>
          <a:blip r:embed="rId1"/>
          <a:stretch/>
        </p:blipFill>
        <p:spPr>
          <a:xfrm>
            <a:off x="2209680" y="685800"/>
            <a:ext cx="4876920" cy="4719600"/>
          </a:xfrm>
          <a:prstGeom prst="rect">
            <a:avLst/>
          </a:prstGeom>
          <a:ln w="0">
            <a:noFill/>
          </a:ln>
          <a:effectLst>
            <a:outerShdw dist="139498" dir="2700000" blurRad="0" rotWithShape="0">
              <a:srgbClr val="333333">
                <a:alpha val="65000"/>
              </a:srgbClr>
            </a:outerShdw>
          </a:effectLst>
        </p:spPr>
      </p:pic>
      <p:pic>
        <p:nvPicPr>
          <p:cNvPr id="232" name="Picture 6" descr="C:\Users\MVining\AppData\Local\Microsoft\Windows\Temporary Internet Files\Content.IE5\PX3EPJO7\MCj04348600000[1].png"/>
          <p:cNvPicPr/>
          <p:nvPr/>
        </p:nvPicPr>
        <p:blipFill>
          <a:blip r:embed="rId2"/>
          <a:stretch/>
        </p:blipFill>
        <p:spPr>
          <a:xfrm>
            <a:off x="3429000" y="1981080"/>
            <a:ext cx="2228760" cy="222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Stages of Development</a:t>
            </a:r>
            <a:endParaRPr b="1" lang="en-US" sz="3600" spc="-1" strike="noStrike">
              <a:solidFill>
                <a:srgbClr val="6594da"/>
              </a:solidFill>
              <a:latin typeface="Verdana"/>
            </a:endParaRPr>
          </a:p>
        </p:txBody>
      </p:sp>
      <p:pic>
        <p:nvPicPr>
          <p:cNvPr id="234" name="Content Placeholder 3" descr=""/>
          <p:cNvPicPr/>
          <p:nvPr/>
        </p:nvPicPr>
        <p:blipFill>
          <a:blip r:embed="rId1"/>
          <a:stretch/>
        </p:blipFill>
        <p:spPr>
          <a:xfrm>
            <a:off x="450720" y="633240"/>
            <a:ext cx="8259840" cy="422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Need</a:t>
            </a:r>
            <a:endParaRPr b="1" lang="en-US" sz="3600" spc="-1" strike="noStrike">
              <a:solidFill>
                <a:srgbClr val="6594da"/>
              </a:solidFill>
              <a:latin typeface="Verdana"/>
            </a:endParaRPr>
          </a:p>
        </p:txBody>
      </p:sp>
      <p:pic>
        <p:nvPicPr>
          <p:cNvPr id="236" name="Picture 4" descr="C:\Users\MVining\AppData\Local\Microsoft\Windows\Temporary Internet Files\Content.IE5\8IFYC2IK\MPj03847350000[1].jpg"/>
          <p:cNvPicPr/>
          <p:nvPr/>
        </p:nvPicPr>
        <p:blipFill>
          <a:blip r:embed="rId1"/>
          <a:stretch/>
        </p:blipFill>
        <p:spPr>
          <a:xfrm>
            <a:off x="2438280" y="990720"/>
            <a:ext cx="4327560" cy="4187880"/>
          </a:xfrm>
          <a:prstGeom prst="rect">
            <a:avLst/>
          </a:prstGeom>
          <a:ln w="0">
            <a:noFill/>
          </a:ln>
          <a:effectLst>
            <a:outerShdw dist="139498" dir="2700000" blurRad="0" rotWithShape="0">
              <a:srgbClr val="333333">
                <a:alpha val="65000"/>
              </a:srgbClr>
            </a:outerShdw>
          </a:effectLst>
        </p:spPr>
      </p:pic>
      <p:pic>
        <p:nvPicPr>
          <p:cNvPr id="237" name="Picture 3" descr="C:\Users\MVining\AppData\Local\Microsoft\Windows\Temporary Internet Files\Content.IE5\PX3EPJO7\MCj04413360000[1].png"/>
          <p:cNvPicPr/>
          <p:nvPr/>
        </p:nvPicPr>
        <p:blipFill>
          <a:blip r:embed="rId2"/>
          <a:stretch/>
        </p:blipFill>
        <p:spPr>
          <a:xfrm>
            <a:off x="3200400" y="190512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Research</a:t>
            </a:r>
            <a:endParaRPr b="1" lang="en-US" sz="3600" spc="-1" strike="noStrike">
              <a:solidFill>
                <a:srgbClr val="6594da"/>
              </a:solidFill>
              <a:latin typeface="Verdana"/>
            </a:endParaRPr>
          </a:p>
        </p:txBody>
      </p:sp>
      <p:pic>
        <p:nvPicPr>
          <p:cNvPr id="239" name="Picture 2" descr="http://xpseminarie.nu/malmo06t/ximages/cunningham.jpg"/>
          <p:cNvPicPr/>
          <p:nvPr/>
        </p:nvPicPr>
        <p:blipFill>
          <a:blip r:embed="rId1"/>
          <a:stretch/>
        </p:blipFill>
        <p:spPr>
          <a:xfrm>
            <a:off x="1487520" y="1579680"/>
            <a:ext cx="3060720" cy="2468520"/>
          </a:xfrm>
          <a:prstGeom prst="rect">
            <a:avLst/>
          </a:prstGeom>
          <a:ln w="0">
            <a:noFill/>
          </a:ln>
        </p:spPr>
      </p:pic>
      <p:pic>
        <p:nvPicPr>
          <p:cNvPr id="240" name="Picture 4" descr="http://images.amazon.com/images/P/020171499X.01.LZZZZZZZ.jpg"/>
          <p:cNvPicPr/>
          <p:nvPr/>
        </p:nvPicPr>
        <p:blipFill>
          <a:blip r:embed="rId2"/>
          <a:stretch/>
        </p:blipFill>
        <p:spPr>
          <a:xfrm>
            <a:off x="5754600" y="2341440"/>
            <a:ext cx="1865520" cy="2291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Development</a:t>
            </a:r>
            <a:endParaRPr b="1" lang="en-US" sz="3600" spc="-1" strike="noStrike">
              <a:solidFill>
                <a:srgbClr val="6594da"/>
              </a:solidFill>
              <a:latin typeface="Verdana"/>
            </a:endParaRPr>
          </a:p>
        </p:txBody>
      </p:sp>
      <p:pic>
        <p:nvPicPr>
          <p:cNvPr id="242" name="Picture 8" descr="http://ec.mashable.com/wp-content/uploads/2008/12/codebeamer.png"/>
          <p:cNvPicPr/>
          <p:nvPr/>
        </p:nvPicPr>
        <p:blipFill>
          <a:blip r:embed="rId1"/>
          <a:stretch/>
        </p:blipFill>
        <p:spPr>
          <a:xfrm>
            <a:off x="609480" y="685800"/>
            <a:ext cx="3257640" cy="2895480"/>
          </a:xfrm>
          <a:prstGeom prst="rect">
            <a:avLst/>
          </a:prstGeom>
          <a:ln w="0">
            <a:noFill/>
          </a:ln>
        </p:spPr>
      </p:pic>
      <p:pic>
        <p:nvPicPr>
          <p:cNvPr id="243" name="Picture 12" descr="http://www.geekgirls.com/images/wiki01.jpg"/>
          <p:cNvPicPr/>
          <p:nvPr/>
        </p:nvPicPr>
        <p:blipFill>
          <a:blip r:embed="rId2"/>
          <a:stretch/>
        </p:blipFill>
        <p:spPr>
          <a:xfrm>
            <a:off x="4572000" y="685800"/>
            <a:ext cx="3581280" cy="2895480"/>
          </a:xfrm>
          <a:prstGeom prst="rect">
            <a:avLst/>
          </a:prstGeom>
          <a:ln w="0">
            <a:noFill/>
          </a:ln>
        </p:spPr>
      </p:pic>
      <p:pic>
        <p:nvPicPr>
          <p:cNvPr id="244" name="Picture 14" descr="http://ec.mashable.com/wp-content/uploads/2009/06/vacay-wiki.png"/>
          <p:cNvPicPr/>
          <p:nvPr/>
        </p:nvPicPr>
        <p:blipFill>
          <a:blip r:embed="rId3"/>
          <a:stretch/>
        </p:blipFill>
        <p:spPr>
          <a:xfrm>
            <a:off x="3960720" y="3733920"/>
            <a:ext cx="4649760" cy="1904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94da"/>
                </a:solidFill>
                <a:latin typeface="Verdana"/>
              </a:rPr>
              <a:t>Commercialization</a:t>
            </a:r>
            <a:endParaRPr b="1" lang="en-US" sz="3600" spc="-1" strike="noStrike">
              <a:solidFill>
                <a:srgbClr val="6594da"/>
              </a:solidFill>
              <a:latin typeface="Verdana"/>
            </a:endParaRPr>
          </a:p>
        </p:txBody>
      </p:sp>
      <p:pic>
        <p:nvPicPr>
          <p:cNvPr id="246" name="Diagram 5" descr=""/>
          <p:cNvPicPr/>
          <p:nvPr/>
        </p:nvPicPr>
        <p:blipFill>
          <a:blip r:embed="rId1"/>
          <a:stretch/>
        </p:blipFill>
        <p:spPr>
          <a:xfrm>
            <a:off x="1444680" y="890640"/>
            <a:ext cx="610848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594da"/>
                </a:solidFill>
                <a:latin typeface="Verdana"/>
              </a:rPr>
              <a:t>Intro to Timeline Slide: Video File</a:t>
            </a:r>
            <a:endParaRPr b="1" lang="en-US" sz="3200" spc="-1" strike="noStrike">
              <a:solidFill>
                <a:srgbClr val="6594da"/>
              </a:solidFill>
              <a:latin typeface="Verdana"/>
            </a:endParaRPr>
          </a:p>
        </p:txBody>
      </p:sp>
      <p:pic>
        <p:nvPicPr>
          <p:cNvPr id="248" name="Picture 4" descr="C:\Users\MVining\AppData\Local\Microsoft\Windows\Temporary Internet Files\Content.IE5\8IFYC2IK\MPj03847350000[1].jpg"/>
          <p:cNvPicPr/>
          <p:nvPr/>
        </p:nvPicPr>
        <p:blipFill>
          <a:blip r:embed="rId1"/>
          <a:stretch/>
        </p:blipFill>
        <p:spPr>
          <a:xfrm>
            <a:off x="2209680" y="685800"/>
            <a:ext cx="4876920" cy="4719600"/>
          </a:xfrm>
          <a:prstGeom prst="rect">
            <a:avLst/>
          </a:prstGeom>
          <a:ln w="0">
            <a:noFill/>
          </a:ln>
          <a:effectLst>
            <a:outerShdw dist="139498" dir="2700000" blurRad="0" rotWithShape="0">
              <a:srgbClr val="333333">
                <a:alpha val="65000"/>
              </a:srgbClr>
            </a:outerShdw>
          </a:effectLst>
        </p:spPr>
      </p:pic>
      <p:pic>
        <p:nvPicPr>
          <p:cNvPr id="249" name="Picture 6" descr="C:\Users\MVining\AppData\Local\Microsoft\Windows\Temporary Internet Files\Content.IE5\PX3EPJO7\MCj04348600000[1].png"/>
          <p:cNvPicPr/>
          <p:nvPr/>
        </p:nvPicPr>
        <p:blipFill>
          <a:blip r:embed="rId2"/>
          <a:stretch/>
        </p:blipFill>
        <p:spPr>
          <a:xfrm>
            <a:off x="3429000" y="1981080"/>
            <a:ext cx="2228760" cy="222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495288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594da"/>
                </a:solidFill>
                <a:latin typeface="Verdana"/>
              </a:rPr>
              <a:t>Timeline of Innovation-Decision Process </a:t>
            </a:r>
            <a:endParaRPr b="1" lang="en-US" sz="2700" spc="-1" strike="noStrike">
              <a:solidFill>
                <a:srgbClr val="6594da"/>
              </a:solidFill>
              <a:latin typeface="Verdana"/>
            </a:endParaRPr>
          </a:p>
        </p:txBody>
      </p:sp>
      <p:pic>
        <p:nvPicPr>
          <p:cNvPr id="251" name="Content Placeholder 6" descr=""/>
          <p:cNvPicPr/>
          <p:nvPr/>
        </p:nvPicPr>
        <p:blipFill>
          <a:blip r:embed="rId1"/>
          <a:stretch/>
        </p:blipFill>
        <p:spPr>
          <a:xfrm>
            <a:off x="487440" y="523800"/>
            <a:ext cx="8211960" cy="4200480"/>
          </a:xfrm>
          <a:prstGeom prst="rect">
            <a:avLst/>
          </a:prstGeom>
          <a:ln w="0">
            <a:noFill/>
          </a:ln>
        </p:spPr>
      </p:pic>
      <p:sp>
        <p:nvSpPr>
          <p:cNvPr id="252" name="TextBox 7"/>
          <p:cNvSpPr/>
          <p:nvPr/>
        </p:nvSpPr>
        <p:spPr>
          <a:xfrm>
            <a:off x="990720" y="2819520"/>
            <a:ext cx="609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Arial"/>
                <a:hlinkClick r:id="rId2"/>
              </a:rPr>
              <a:t>1995</a:t>
            </a:r>
            <a:endParaRPr b="0" lang="en-US" sz="1400" spc="-1" strike="noStrike">
              <a:solidFill>
                <a:srgbClr val="000000"/>
              </a:solidFill>
              <a:latin typeface="Arial"/>
            </a:endParaRPr>
          </a:p>
        </p:txBody>
      </p:sp>
      <p:sp>
        <p:nvSpPr>
          <p:cNvPr id="253" name="TextBox 8"/>
          <p:cNvSpPr/>
          <p:nvPr/>
        </p:nvSpPr>
        <p:spPr>
          <a:xfrm>
            <a:off x="2362320" y="2819520"/>
            <a:ext cx="609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4</a:t>
            </a:r>
            <a:endParaRPr b="0" lang="en-US" sz="1400" spc="-1" strike="noStrike">
              <a:solidFill>
                <a:srgbClr val="000000"/>
              </a:solidFill>
              <a:latin typeface="Arial"/>
            </a:endParaRPr>
          </a:p>
        </p:txBody>
      </p:sp>
      <p:sp>
        <p:nvSpPr>
          <p:cNvPr id="254" name="TextBox 9"/>
          <p:cNvSpPr/>
          <p:nvPr/>
        </p:nvSpPr>
        <p:spPr>
          <a:xfrm>
            <a:off x="3505320" y="2819520"/>
            <a:ext cx="1066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4-2006</a:t>
            </a:r>
            <a:endParaRPr b="0" lang="en-US" sz="1400" spc="-1" strike="noStrike">
              <a:solidFill>
                <a:srgbClr val="000000"/>
              </a:solidFill>
              <a:latin typeface="Arial"/>
            </a:endParaRPr>
          </a:p>
        </p:txBody>
      </p:sp>
      <p:sp>
        <p:nvSpPr>
          <p:cNvPr id="255" name="TextBox 10"/>
          <p:cNvSpPr/>
          <p:nvPr/>
        </p:nvSpPr>
        <p:spPr>
          <a:xfrm>
            <a:off x="5334120" y="2819520"/>
            <a:ext cx="609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6</a:t>
            </a:r>
            <a:endParaRPr b="0" lang="en-US" sz="1400" spc="-1" strike="noStrike">
              <a:solidFill>
                <a:srgbClr val="000000"/>
              </a:solidFill>
              <a:latin typeface="Arial"/>
            </a:endParaRPr>
          </a:p>
        </p:txBody>
      </p:sp>
      <p:sp>
        <p:nvSpPr>
          <p:cNvPr id="256" name="TextBox 11"/>
          <p:cNvSpPr/>
          <p:nvPr/>
        </p:nvSpPr>
        <p:spPr>
          <a:xfrm>
            <a:off x="6934320" y="2819520"/>
            <a:ext cx="609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9 </a:t>
            </a:r>
            <a:endParaRPr b="0" lang="en-US" sz="1400" spc="-1" strike="noStrike">
              <a:solidFill>
                <a:srgbClr val="000000"/>
              </a:solidFill>
              <a:latin typeface="Arial"/>
            </a:endParaRPr>
          </a:p>
        </p:txBody>
      </p:sp>
      <p:cxnSp>
        <p:nvCxnSpPr>
          <p:cNvPr id="257" name="Elbow Connector 20"/>
          <p:cNvCxnSpPr/>
          <p:nvPr/>
        </p:nvCxnSpPr>
        <p:spPr>
          <a:xfrm>
            <a:off x="4343400" y="2514240"/>
            <a:ext cx="991440" cy="229320"/>
          </a:xfrm>
          <a:prstGeom prst="bentConnector3">
            <a:avLst>
              <a:gd name="adj1" fmla="val 51107"/>
            </a:avLst>
          </a:prstGeom>
          <a:ln w="9360">
            <a:solidFill>
              <a:srgbClr val="347fd8"/>
            </a:solidFill>
            <a:miter/>
            <a:tailEnd len="med" type="arrow" w="med"/>
          </a:ln>
        </p:spPr>
      </p:cxnSp>
      <p:pic>
        <p:nvPicPr>
          <p:cNvPr id="258" name="Picture 3" descr="C:\Users\MVining\AppData\Local\Microsoft\Windows\Temporary Internet Files\Content.IE5\UM6981SC\MPj04393500000[1].jpg"/>
          <p:cNvPicPr/>
          <p:nvPr/>
        </p:nvPicPr>
        <p:blipFill>
          <a:blip r:embed="rId3"/>
          <a:stretch/>
        </p:blipFill>
        <p:spPr>
          <a:xfrm>
            <a:off x="7696080" y="4648320"/>
            <a:ext cx="838440" cy="838080"/>
          </a:xfrm>
          <a:prstGeom prst="rect">
            <a:avLst/>
          </a:prstGeom>
          <a:ln w="0">
            <a:noFill/>
          </a:ln>
        </p:spPr>
      </p:pic>
      <p:grpSp>
        <p:nvGrpSpPr>
          <p:cNvPr id="259" name="Rounded Rectangular Callout 28"/>
          <p:cNvGrpSpPr/>
          <p:nvPr/>
        </p:nvGrpSpPr>
        <p:grpSpPr>
          <a:xfrm>
            <a:off x="7156440" y="3614760"/>
            <a:ext cx="1457280" cy="1103400"/>
            <a:chOff x="7156440" y="3614760"/>
            <a:chExt cx="1457280" cy="1103400"/>
          </a:xfrm>
        </p:grpSpPr>
        <p:pic>
          <p:nvPicPr>
            <p:cNvPr id="260" name="Rounded Rectangular Callout 28" descr=""/>
            <p:cNvPicPr/>
            <p:nvPr/>
          </p:nvPicPr>
          <p:blipFill>
            <a:blip r:embed="rId4"/>
            <a:stretch/>
          </p:blipFill>
          <p:spPr>
            <a:xfrm>
              <a:off x="7156440" y="3614760"/>
              <a:ext cx="1457280" cy="1103400"/>
            </a:xfrm>
            <a:prstGeom prst="rect">
              <a:avLst/>
            </a:prstGeom>
            <a:ln w="0">
              <a:noFill/>
            </a:ln>
          </p:spPr>
        </p:pic>
        <p:sp>
          <p:nvSpPr>
            <p:cNvPr id="261" name=""/>
            <p:cNvSpPr/>
            <p:nvPr/>
          </p:nvSpPr>
          <p:spPr>
            <a:xfrm>
              <a:off x="7280280" y="3699000"/>
              <a:ext cx="1212840" cy="75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mmunication Channel: Interpersonal combined with mass media</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5T15:50:37Z</dcterms:created>
  <dc:creator>MVining</dc:creator>
  <dc:description/>
  <dc:language>en-US</dc:language>
  <cp:lastModifiedBy>MVining</cp:lastModifiedBy>
  <dcterms:modified xsi:type="dcterms:W3CDTF">2009-07-17T00:47:50Z</dcterms:modified>
  <cp:revision>157</cp:revision>
  <dc:subject/>
  <dc:title>Slide 1</dc:title>
</cp:coreProperties>
</file>